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76CBF-90EF-4F96-A88E-5EEE1DEF5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0EECE-C38F-4B3E-892F-26EFB51D0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9196B-7EF3-4546-BC02-69A84A3D0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F876E-9279-4ADE-8DAA-F51E61DD3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BEC64-30D5-4C96-900F-38226E9C3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2799A-08FA-497E-9E59-BCE33DC56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EACCC-3089-402C-BFB5-2783B5807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010C8-B128-4EF9-B833-FAB9A0EE2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9FECA-2725-4B3E-B781-C7DD333CE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AAC93-8D12-4B3A-84B3-510F06C6D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12A0A-D5A2-4D2D-BEE3-6D34441BD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A98CB-C63E-4039-B8FA-CEC99452B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A26C2-C0E4-46B7-B1C9-886DFC24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4ABAF-55A4-4BCA-8E0E-9CBA5EEF9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5C2ED-6EFF-47E2-A075-657843147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729F3-96AF-4F4B-B396-70EE89190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CCB7E-520A-40DC-B2D0-FC7FCBD39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5F789-41B3-4872-A74A-CD573179D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DBDE2-920E-4B48-8F9B-B8F33ED7A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7C804-D677-4A52-8696-260951D2C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A7394-019F-45B5-90B7-46D39D75A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F8061-7BCB-4D91-961B-93FB89F84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1640B-1241-4E0D-990A-ACEB0553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67556-D730-4AF4-B6C0-E146E19D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75B96-6664-4036-86ED-A2DD287E6E9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D8315-DCC7-4C8C-8F91-D2DBAA19A03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MPICH2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PI-2 demos using pmand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Pmandel_fenc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PI-2 RMA fun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PI_Win_cre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PI_Win_f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PI_Pu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ster puts work in worker window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laves do work and put results in root’s wind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4648320" y="1739880"/>
          <a:ext cx="4038480" cy="425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39880"/>
                    <a:ext cx="4038480" cy="42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510552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1066680" y="2514600"/>
            <a:ext cx="106704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isuali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419720" y="2057400"/>
            <a:ext cx="4267080" cy="3733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133720" y="2971800"/>
            <a:ext cx="29718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948400" y="2743200"/>
            <a:ext cx="8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561400" y="3505320"/>
            <a:ext cx="181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PI_Win_f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552760" y="388620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PI_Put 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561400" y="4267080"/>
            <a:ext cx="181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PI_Win_f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558160" y="4648320"/>
            <a:ext cx="160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PI_Put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876920" y="2438280"/>
            <a:ext cx="198108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696080" y="2743200"/>
            <a:ext cx="4572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4419720"/>
            <a:ext cx="4572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867280" y="5410080"/>
            <a:ext cx="457200" cy="152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432160" y="3255840"/>
            <a:ext cx="311040" cy="2306880"/>
          </a:xfrm>
          <a:custGeom>
            <a:avLst/>
            <a:gdLst/>
            <a:ahLst/>
            <a:rect l="l" t="t" r="r" b="b"/>
            <a:pathLst>
              <a:path w="196" h="1271">
                <a:moveTo>
                  <a:pt x="196" y="1117"/>
                </a:moveTo>
                <a:cubicBezTo>
                  <a:pt x="176" y="1129"/>
                  <a:pt x="105" y="1271"/>
                  <a:pt x="73" y="1189"/>
                </a:cubicBezTo>
                <a:cubicBezTo>
                  <a:pt x="41" y="1107"/>
                  <a:pt x="0" y="808"/>
                  <a:pt x="1" y="623"/>
                </a:cubicBezTo>
                <a:cubicBezTo>
                  <a:pt x="2" y="438"/>
                  <a:pt x="46" y="156"/>
                  <a:pt x="78" y="78"/>
                </a:cubicBezTo>
                <a:cubicBezTo>
                  <a:pt x="110" y="0"/>
                  <a:pt x="172" y="141"/>
                  <a:pt x="196" y="157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5867280" y="2819520"/>
            <a:ext cx="1981440" cy="2590560"/>
            <a:chOff x="5867280" y="2819520"/>
            <a:chExt cx="1981440" cy="2590560"/>
          </a:xfrm>
        </p:grpSpPr>
        <p:sp>
          <p:nvSpPr>
            <p:cNvPr id="228" name=""/>
            <p:cNvSpPr/>
            <p:nvPr/>
          </p:nvSpPr>
          <p:spPr>
            <a:xfrm flipV="1">
              <a:off x="5867280" y="2819520"/>
              <a:ext cx="182880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867280" y="3200400"/>
              <a:ext cx="1981440" cy="1219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67280" y="3276720"/>
              <a:ext cx="381240" cy="2133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4876920" y="2666520"/>
            <a:ext cx="2285280" cy="2057400"/>
            <a:chOff x="4876920" y="2666520"/>
            <a:chExt cx="2285280" cy="2057400"/>
          </a:xfrm>
        </p:grpSpPr>
        <p:sp>
          <p:nvSpPr>
            <p:cNvPr id="232" name=""/>
            <p:cNvSpPr/>
            <p:nvPr/>
          </p:nvSpPr>
          <p:spPr>
            <a:xfrm flipH="1" flipV="1">
              <a:off x="4876920" y="2666520"/>
              <a:ext cx="415440" cy="2057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 flipV="1">
              <a:off x="5811480" y="2666880"/>
              <a:ext cx="1246680" cy="1928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 flipV="1">
              <a:off x="6746760" y="2666880"/>
              <a:ext cx="415440" cy="642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2561400" y="4952880"/>
            <a:ext cx="181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PI_Win_f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559240" y="2133720"/>
            <a:ext cx="18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PI_Win_cre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7" name=""/>
          <p:cNvCxnSpPr>
            <a:stCxn id="224" idx="2"/>
            <a:endCxn id="238" idx="6"/>
          </p:cNvCxnSpPr>
          <p:nvPr/>
        </p:nvCxnSpPr>
        <p:spPr>
          <a:xfrm flipH="1">
            <a:off x="7695360" y="4571640"/>
            <a:ext cx="305640" cy="3056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678168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25" idx="0"/>
            <a:endCxn id="225" idx="0"/>
          </p:cNvCxnSpPr>
          <p:nvPr/>
        </p:nvCxnSpPr>
        <p:spPr>
          <a:xfrm>
            <a:off x="6095520" y="540972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40" name=""/>
          <p:cNvSpPr/>
          <p:nvPr/>
        </p:nvSpPr>
        <p:spPr>
          <a:xfrm>
            <a:off x="510552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78168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2" name=""/>
          <p:cNvCxnSpPr>
            <a:stCxn id="225" idx="0"/>
            <a:endCxn id="240" idx="5"/>
          </p:cNvCxnSpPr>
          <p:nvPr/>
        </p:nvCxnSpPr>
        <p:spPr>
          <a:xfrm flipH="1" flipV="1">
            <a:off x="5886000" y="5200200"/>
            <a:ext cx="210240" cy="2102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43" name=""/>
          <p:cNvCxnSpPr>
            <a:stCxn id="223" idx="2"/>
            <a:endCxn id="241" idx="7"/>
          </p:cNvCxnSpPr>
          <p:nvPr/>
        </p:nvCxnSpPr>
        <p:spPr>
          <a:xfrm flipH="1">
            <a:off x="7562160" y="2895120"/>
            <a:ext cx="362520" cy="1342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44" name=""/>
          <p:cNvCxnSpPr>
            <a:stCxn id="212" idx="0"/>
            <a:endCxn id="222" idx="2"/>
          </p:cNvCxnSpPr>
          <p:nvPr/>
        </p:nvCxnSpPr>
        <p:spPr>
          <a:xfrm flipV="1">
            <a:off x="5562720" y="2666160"/>
            <a:ext cx="305280" cy="2293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1000" fill="hold"/>
                                        <p:tgtEl>
                                          <p:spTgt spid="2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1000" fill="hold"/>
                                        <p:tgtEl>
                                          <p:spTgt spid="21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1000" fill="hold"/>
                                        <p:tgtEl>
                                          <p:spTgt spid="2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1000" fill="hold"/>
                                        <p:tgtEl>
                                          <p:spTgt spid="2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1000" fill="hold"/>
                                        <p:tgtEl>
                                          <p:spTgt spid="23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Pmandel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PI-1 functions on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PI_Send, MPI_Recv, MPI_Bcast,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ic MPI_COMM_WORL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sualizer communicates with the root process using a sock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648320" y="1739880"/>
          <a:ext cx="4038480" cy="425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39880"/>
                    <a:ext cx="4038480" cy="42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2514600"/>
            <a:ext cx="106704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isuali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0552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0552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78168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78168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419720" y="2362320"/>
            <a:ext cx="3886200" cy="3429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33720" y="2971800"/>
            <a:ext cx="29718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948400" y="2743200"/>
            <a:ext cx="8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Pmandel_servic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419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ot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PI_Open_po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PI_Comm_accep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sualiz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PI_Comm_conne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 MPI_COMM_WORL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ster + work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isualiz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876920" y="1752480"/>
          <a:ext cx="4038480" cy="425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1752480"/>
                    <a:ext cx="4038480" cy="42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419720" y="2362320"/>
            <a:ext cx="3886200" cy="3429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510552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10552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78168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78168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1" name=""/>
          <p:cNvCxnSpPr>
            <a:stCxn id="145" idx="1"/>
            <a:endCxn id="145" idx="1"/>
          </p:cNvCxnSpPr>
          <p:nvPr/>
        </p:nvCxnSpPr>
        <p:spPr>
          <a:xfrm>
            <a:off x="4987440" y="286344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52" name=""/>
          <p:cNvSpPr/>
          <p:nvPr/>
        </p:nvSpPr>
        <p:spPr>
          <a:xfrm>
            <a:off x="4800600" y="25909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45" idx="1"/>
            <a:endCxn id="145" idx="1"/>
          </p:cNvCxnSpPr>
          <p:nvPr/>
        </p:nvCxnSpPr>
        <p:spPr>
          <a:xfrm>
            <a:off x="4987440" y="286344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54" name=""/>
          <p:cNvCxnSpPr>
            <a:stCxn id="152" idx="5"/>
            <a:endCxn id="147" idx="1"/>
          </p:cNvCxnSpPr>
          <p:nvPr/>
        </p:nvCxnSpPr>
        <p:spPr>
          <a:xfrm>
            <a:off x="4930560" y="2720880"/>
            <a:ext cx="308520" cy="3088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55" name=""/>
          <p:cNvSpPr/>
          <p:nvPr/>
        </p:nvSpPr>
        <p:spPr>
          <a:xfrm>
            <a:off x="762120" y="2209680"/>
            <a:ext cx="1676160" cy="1546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438280" y="259092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7" name=""/>
          <p:cNvCxnSpPr>
            <a:stCxn id="156" idx="3"/>
            <a:endCxn id="158" idx="3"/>
          </p:cNvCxnSpPr>
          <p:nvPr/>
        </p:nvCxnSpPr>
        <p:spPr>
          <a:xfrm flipH="1">
            <a:off x="2133360" y="2720520"/>
            <a:ext cx="327600" cy="2516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066680" y="2514600"/>
            <a:ext cx="106704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isuali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90920" y="2666880"/>
            <a:ext cx="2209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29880" y="1905120"/>
            <a:ext cx="16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pen_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mm_accep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55680" y="2133720"/>
            <a:ext cx="18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mm_conn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Pmandel_spaw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ynamic Proces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ngle mas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ultiple slav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PI_Comm_spaw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root communicates with the workers using MPI function calls over the intercommunicato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isualizer communicates with the root using a sock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648320" y="1739880"/>
          <a:ext cx="4038480" cy="425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39880"/>
                    <a:ext cx="4038480" cy="42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1066680" y="2514600"/>
            <a:ext cx="106704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isuali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2666880"/>
            <a:ext cx="13716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971800"/>
            <a:ext cx="29718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48400" y="2743200"/>
            <a:ext cx="8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553080" y="2666880"/>
            <a:ext cx="13716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876920" y="4191120"/>
            <a:ext cx="13716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553080" y="4191120"/>
            <a:ext cx="13716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10552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10552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78168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78168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4" idx="6"/>
            <a:endCxn id="176" idx="2"/>
          </p:cNvCxnSpPr>
          <p:nvPr/>
        </p:nvCxnSpPr>
        <p:spPr>
          <a:xfrm>
            <a:off x="6019920" y="3352320"/>
            <a:ext cx="7624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74" idx="4"/>
            <a:endCxn id="175" idx="0"/>
          </p:cNvCxnSpPr>
          <p:nvPr/>
        </p:nvCxnSpPr>
        <p:spPr>
          <a:xfrm>
            <a:off x="5562360" y="3809880"/>
            <a:ext cx="1080" cy="610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74" idx="5"/>
            <a:endCxn id="177" idx="1"/>
          </p:cNvCxnSpPr>
          <p:nvPr/>
        </p:nvCxnSpPr>
        <p:spPr>
          <a:xfrm>
            <a:off x="5886360" y="3676680"/>
            <a:ext cx="1029600" cy="876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81" name=""/>
          <p:cNvSpPr/>
          <p:nvPr/>
        </p:nvSpPr>
        <p:spPr>
          <a:xfrm>
            <a:off x="5777640" y="1981080"/>
            <a:ext cx="233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pa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ter-communica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Pmandel_spaserv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ynamic processes and por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ngle mas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PI_Open_port, MPI_Comm_accep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PI_Comm_spawn to spawn work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sualizer connects via MPI_Comm_conne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648320" y="1739880"/>
          <a:ext cx="4038480" cy="425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39880"/>
                    <a:ext cx="4038480" cy="42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1066680" y="2514600"/>
            <a:ext cx="106704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isuali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876920" y="2666880"/>
            <a:ext cx="13716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553080" y="2666880"/>
            <a:ext cx="13716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876920" y="4191120"/>
            <a:ext cx="13716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53080" y="4191120"/>
            <a:ext cx="13716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10552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10552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78168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6" name=""/>
          <p:cNvCxnSpPr>
            <a:stCxn id="192" idx="6"/>
            <a:endCxn id="194" idx="2"/>
          </p:cNvCxnSpPr>
          <p:nvPr/>
        </p:nvCxnSpPr>
        <p:spPr>
          <a:xfrm>
            <a:off x="6019920" y="3352320"/>
            <a:ext cx="7624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7" name=""/>
          <p:cNvCxnSpPr>
            <a:stCxn id="192" idx="4"/>
            <a:endCxn id="193" idx="0"/>
          </p:cNvCxnSpPr>
          <p:nvPr/>
        </p:nvCxnSpPr>
        <p:spPr>
          <a:xfrm>
            <a:off x="5562360" y="3809880"/>
            <a:ext cx="1080" cy="610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8" name=""/>
          <p:cNvCxnSpPr>
            <a:stCxn id="192" idx="5"/>
            <a:endCxn id="195" idx="1"/>
          </p:cNvCxnSpPr>
          <p:nvPr/>
        </p:nvCxnSpPr>
        <p:spPr>
          <a:xfrm>
            <a:off x="5886360" y="3676680"/>
            <a:ext cx="1029600" cy="876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9" name=""/>
          <p:cNvSpPr/>
          <p:nvPr/>
        </p:nvSpPr>
        <p:spPr>
          <a:xfrm>
            <a:off x="5777640" y="5638680"/>
            <a:ext cx="233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pa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ter-communica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800600" y="25909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200" idx="5"/>
          </p:cNvCxnSpPr>
          <p:nvPr/>
        </p:nvCxnSpPr>
        <p:spPr>
          <a:xfrm>
            <a:off x="4930560" y="2720880"/>
            <a:ext cx="308520" cy="3088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2438280" y="259092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3"/>
          </p:cNvCxnSpPr>
          <p:nvPr/>
        </p:nvCxnSpPr>
        <p:spPr>
          <a:xfrm flipH="1">
            <a:off x="2133360" y="2720520"/>
            <a:ext cx="327600" cy="2516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04" name=""/>
          <p:cNvSpPr/>
          <p:nvPr/>
        </p:nvSpPr>
        <p:spPr>
          <a:xfrm>
            <a:off x="2590920" y="2666880"/>
            <a:ext cx="2209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29880" y="1905120"/>
            <a:ext cx="16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pen_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mm_accep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155680" y="2133720"/>
            <a:ext cx="18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mm_conn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62120" y="2209680"/>
            <a:ext cx="1676160" cy="1546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4T07:15:40Z</dcterms:created>
  <dc:creator>David Ashton</dc:creator>
  <dc:description/>
  <dc:language>en-US</dc:language>
  <cp:lastModifiedBy>David Ashton</cp:lastModifiedBy>
  <dcterms:modified xsi:type="dcterms:W3CDTF">2003-11-14T08:25:36Z</dcterms:modified>
  <cp:revision>2</cp:revision>
  <dc:subject/>
  <dc:title>MPICH2</dc:title>
</cp:coreProperties>
</file>